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74760" y="6350040"/>
            <a:ext cx="6980400" cy="3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ification of Precipitation Forecasts: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survey of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20040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 1:  General framework and verification of continuous variab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. J. Wilson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Meteorological Service of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05040" y="2782800"/>
            <a:ext cx="1924200" cy="128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ramework for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7080" y="914400"/>
            <a:ext cx="7853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l verification information contained in the joint distribution of forecasts an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actor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bration-refin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f,x) = p(x|f) p(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|f) = conditional distribution of observation given forecast (calibration/reliabilit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f) = marginal distribution of forecasts (refinemen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ihood-base r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f,x) = p(f|x)p(x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f|x) = conditional distribution of forecasts given observations (likelihood/discriminatio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) = marginal distribution of observations (base rate/climat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oal: administrative, scientific,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verification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Type of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 Attributes (more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 Samp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erification starts with a matched set of forecasts and observations.  Before preparing the data, it is important to consider all of the abov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ctors to consider in verific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ampl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520" y="99072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atification of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stratification” by time of day, season, forecast project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stratification”, to separate extreme events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to maintain sufficient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s valid for points or for an area (in space o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s valid for points or areas (in space o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reconcile when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cales are adequately sampled by data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atching: to sample, interpolate or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ampling issu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x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observations of a parameter other than the one to be ver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motely-sen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 relationship (imperfect) to define physical paramete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as observations i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399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ification -A gene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257480"/>
            <a:ext cx="9042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ample scatte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908840" y="1881360"/>
            <a:ext cx="88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49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0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stribu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atter Plo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actor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oal (administrative, scientific,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forecast (continuous, probabilis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to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ner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rification methods for continuou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tter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es (bias, mae, rmse, rv, L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ingency tables and related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correct,POD,FAR,(equitable) threat,HSS,Hanssen-Kui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981000"/>
            <a:ext cx="3178080" cy="1776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61000" y="1300320"/>
            <a:ext cx="394956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092400" y="2894040"/>
            <a:ext cx="1990800" cy="50796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743200"/>
            <a:ext cx="2134080" cy="457560"/>
          </a:xfrm>
          <a:custGeom>
            <a:avLst/>
            <a:gdLst/>
            <a:ahLst/>
            <a:rect l="0" t="0" r="r" b="b"/>
            <a:pathLst>
              <a:path fill="none" w="5928" h="1271">
                <a:moveTo>
                  <a:pt x="0" y="1271"/>
                </a:moveTo>
                <a:lnTo>
                  <a:pt x="0" y="1271"/>
                </a:lnTo>
                <a:cubicBezTo>
                  <a:pt x="1041" y="1271"/>
                  <a:pt x="2063" y="1212"/>
                  <a:pt x="2964" y="1101"/>
                </a:cubicBezTo>
                <a:cubicBezTo>
                  <a:pt x="3865" y="989"/>
                  <a:pt x="4614" y="829"/>
                  <a:pt x="5134" y="635"/>
                </a:cubicBezTo>
                <a:cubicBezTo>
                  <a:pt x="5654" y="442"/>
                  <a:pt x="5928" y="223"/>
                  <a:pt x="5928" y="0"/>
                </a:cubicBezTo>
              </a:path>
            </a:pathLst>
          </a:custGeom>
          <a:ln w="25560">
            <a:solidFill>
              <a:srgbClr val="00008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743200"/>
            <a:ext cx="1524240" cy="457560"/>
          </a:xfrm>
          <a:custGeom>
            <a:avLst/>
            <a:gdLst/>
            <a:ahLst/>
            <a:rect l="0" t="0" r="r" b="b"/>
            <a:pathLst>
              <a:path fill="none" w="4234" h="1271">
                <a:moveTo>
                  <a:pt x="0" y="0"/>
                </a:moveTo>
                <a:lnTo>
                  <a:pt x="0" y="0"/>
                </a:lnTo>
                <a:cubicBezTo>
                  <a:pt x="0" y="223"/>
                  <a:pt x="196" y="442"/>
                  <a:pt x="567" y="636"/>
                </a:cubicBezTo>
                <a:cubicBezTo>
                  <a:pt x="939" y="829"/>
                  <a:pt x="1473" y="989"/>
                  <a:pt x="2117" y="1101"/>
                </a:cubicBezTo>
                <a:cubicBezTo>
                  <a:pt x="2761" y="1212"/>
                  <a:pt x="3491" y="1271"/>
                  <a:pt x="4234" y="1271"/>
                </a:cubicBezTo>
              </a:path>
            </a:pathLst>
          </a:custGeom>
          <a:ln w="25560">
            <a:solidFill>
              <a:srgbClr val="00008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5880" y="3565440"/>
            <a:ext cx="83818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AE: Average magnitude of the errors, a linear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MSE: A quadratic scoring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arger errors carry higher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omparisons of MAE and RMSE indicate the error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MSE is always &gt;/= M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: Sometimes the mean error is subtracted when calculating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se sc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27000" y="2936880"/>
            <a:ext cx="4025880" cy="1254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73000" y="1046160"/>
            <a:ext cx="3317760" cy="1316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041800" y="3216240"/>
            <a:ext cx="1952640" cy="75240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= -inf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78240" y="2405160"/>
            <a:ext cx="1698480" cy="44784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25760" y="974880"/>
            <a:ext cx="4467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verage error in a set of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hould be shown in comparison to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li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7280" y="4449600"/>
            <a:ext cx="8666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V (reduction of variance) is a skill score vs. climatology for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ontinuous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easures the % improvement over clima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egative means climate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an be referenced either to long term climate or sample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ariance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degree of linear associ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ensitive to bia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ovariance normalized by the product of the standard deviations of the two variabl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4280" y="2077920"/>
            <a:ext cx="48816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R)MS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92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4495680" y="2666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876920" y="20574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636"/>
                </a:moveTo>
                <a:lnTo>
                  <a:pt x="213" y="636"/>
                </a:lnTo>
                <a:lnTo>
                  <a:pt x="213" y="636"/>
                </a:lnTo>
                <a:cubicBezTo>
                  <a:pt x="213" y="524"/>
                  <a:pt x="203" y="415"/>
                  <a:pt x="184" y="318"/>
                </a:cubicBezTo>
                <a:cubicBezTo>
                  <a:pt x="166" y="221"/>
                  <a:pt x="139" y="141"/>
                  <a:pt x="106" y="85"/>
                </a:cubicBezTo>
                <a:cubicBezTo>
                  <a:pt x="74" y="29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22860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508040" y="860400"/>
            <a:ext cx="213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ean error remov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tatistics of th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19200" y="1392120"/>
            <a:ext cx="6086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near error in probability space (LE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84360" y="1406520"/>
            <a:ext cx="5202360" cy="143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tric is linear in cumulative probability spac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limatological cdf of th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nge is 0 for perfect forecast to 1 for worst possible forecasts (negative ori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mphasizes errors in higher probability regions of distribution where cdf is st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n use conditional climatology, sample or long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P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8880" y="847800"/>
            <a:ext cx="7277040" cy="532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644400" y="636480"/>
            <a:ext cx="1546200" cy="692280"/>
          </a:xfrm>
          <a:prstGeom prst="rect">
            <a:avLst/>
          </a:prstGeom>
          <a:solidFill>
            <a:srgbClr val="ff6699">
              <a:alpha val="50000"/>
            </a:srgbClr>
          </a:solidFill>
          <a:ln w="2556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bs = 0.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cst = 0.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19520" y="36576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79640" y="3427560"/>
            <a:ext cx="1090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=0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4038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79640" y="3884760"/>
            <a:ext cx="1123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x)=0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79840" y="2970360"/>
            <a:ext cx="1230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PS = 0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PS Skill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 with respect to constant forecast of the climatological media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ndard skill score forma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2880" y="1773360"/>
            <a:ext cx="66340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 - Basic 2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11360" y="14320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25280" y="-3207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8120" y="339084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49600" y="1881360"/>
            <a:ext cx="53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097160" y="188136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06600" y="325296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30280" y="2490840"/>
            <a:ext cx="53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valuation of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rphy’s “good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:  forecasts agree with forecaster’s true belief about the future weather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ly pro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: correspondence between observations and forecasts [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increase or decrease in economic or other kind of value to someone as a result of using the forecast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the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73520" y="1295280"/>
            <a:ext cx="3693960" cy="1319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78200" y="2670120"/>
            <a:ext cx="2173320" cy="8128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0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3080" y="3870360"/>
            <a:ext cx="66470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reatly influenced by most common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it rate” in a 2 by 2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an be maximized by forecasting the most common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ategory all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1382760"/>
            <a:ext cx="4121280" cy="2732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887480" y="9748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289080" y="232416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15880" y="3794040"/>
            <a:ext cx="76788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oD= “Prefigurance” or “probability of det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nsitive only to missed events, not false al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an always be increased by overforecasting rar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AR= “False alarm rat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nsitive only to false alarms, not miss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an always be improved by underforecasting rar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90920" y="1406520"/>
            <a:ext cx="2619360" cy="1058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413240" y="2490840"/>
            <a:ext cx="2579760" cy="1101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078680" y="1554120"/>
            <a:ext cx="1913040" cy="8128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04240" y="2622600"/>
            <a:ext cx="1868400" cy="8128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55640" y="1382760"/>
            <a:ext cx="4121280" cy="2732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887480" y="9748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289080" y="232416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2200" y="3946680"/>
            <a:ext cx="7535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AG= “Post agre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AG= (1-FAR), and has the sam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ias:  This is frequency bias, indicates whether the forecast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stribution is similar to the observed distribution of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373640" y="1241280"/>
            <a:ext cx="266688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29080" y="2541600"/>
            <a:ext cx="3849840" cy="1049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7122960" y="1407960"/>
            <a:ext cx="1868400" cy="8128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32440" y="3627360"/>
            <a:ext cx="1698480" cy="44784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55640" y="1382760"/>
            <a:ext cx="4121280" cy="2732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887480" y="9748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289080" y="232416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rea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7800" y="1384200"/>
            <a:ext cx="4410000" cy="1081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613480" y="3656160"/>
            <a:ext cx="1868400" cy="8128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5880" y="4175280"/>
            <a:ext cx="84074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reat Score” or “Critical Success Ind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nsitive to both false alarms and missed events; a more balanced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easure than either PoD or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5640" y="1382760"/>
            <a:ext cx="4121280" cy="273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887480" y="9748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289080" y="232416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862520" y="2525760"/>
            <a:ext cx="35193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quitable Threat Score (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8440" y="925560"/>
            <a:ext cx="4121280" cy="2732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4238640" cy="4352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89080" y="3710160"/>
            <a:ext cx="39783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so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correct forecasts of each category get the same overall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constant forecasts of either category or random forecasts 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perfect forecast gets a value of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eidke Skill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44840" y="1744560"/>
            <a:ext cx="4494240" cy="1913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708520" y="3830760"/>
            <a:ext cx="2736720" cy="6922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negative value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44480" y="4175280"/>
            <a:ext cx="51228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 skill score against chance (as sh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asy to show positiv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tter to use climatology or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eeds anoth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3360" y="1687680"/>
            <a:ext cx="4121280" cy="2732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735200" y="112716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517680" y="262872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gency tables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anssen-Kuipers Discri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62640" y="1460520"/>
            <a:ext cx="3152880" cy="110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6242040" y="2840040"/>
            <a:ext cx="2158920" cy="692280"/>
          </a:xfrm>
          <a:prstGeom prst="rect">
            <a:avLst/>
          </a:prstGeom>
          <a:solidFill>
            <a:srgbClr val="ffffbd"/>
          </a:solidFill>
          <a:ln w="25560">
            <a:solidFill>
              <a:srgbClr val="0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ge: negative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est scor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44480" y="4175280"/>
            <a:ext cx="66470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 equitable skill score against c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andom forecasts and constant forecasts get 0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In practice, gives results a lot like 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1382760"/>
            <a:ext cx="4121280" cy="2732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887480" y="9748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289080" y="232416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21cff"/>
                </a:solidFill>
                <a:latin typeface="Times New Roman"/>
                <a:ea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324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inciples of (Objective)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87320" y="16383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rification activity has value only if the information generated leads to a decision about the forecast or system being ve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of the information must be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the verification must be known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 single verification measure provides complete information about the quality of a forecast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ecast must be stated in such a way that it can be ve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oal: administrative, scientific,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verification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Type of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 Attributes (more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 Samp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erification starts with a matched set of forecasts and observations.  Before preparing the data, it is important to consider all of the abov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ctors to consider in verific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oals of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1239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 cost of provision of weath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 additional or 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the quality of forecasts and track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cient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dentify the strengths and weaknesses of a forecast product in sufficient detail that actions can be specified that will lead to improvements in the product, ie to provide information to direct R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(economic) value of the forecast to a user or a group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additional quantitative information on user’s economic sensitivity to 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oal: administrative, scientific,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verification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Type of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 Attributes (more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 Samp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erification starts with a matched set of forecasts and observations.  Before preparing the data, it is important to consider all of the abov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ctors to consider in verific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ification Model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edictan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ecast is a specific value of th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ai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ategorical/probabilis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ecast is the probability of occurrence of ranges of values of the variable (catego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 and other weather elements (fog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708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oal: administrative, scientific,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verification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Type of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 Attributes (more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 Samp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erification starts with a matched set of forecasts and observations.  Before preparing the data, it is important to consider all of the abov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556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ctors to consider in verific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. Wilson</dc:creator>
  <dc:description/>
  <dc:language>en-US</dc:language>
  <cp:lastModifiedBy>L. Wilson</cp:lastModifiedBy>
  <cp:revision>0</cp:revision>
  <dc:subject/>
  <dc:title>Verification of Precipitation Forecasts</dc:title>
</cp:coreProperties>
</file>